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AE8-45AB-482E-AA77-62AB357D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158-8A44-46E5-B1FB-719839B1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17B-773A-40EA-8D59-B17D2DDE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BFF-D0C0-4CC6-A918-72CF7DA4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61C8-76CD-4041-ADA6-D702AB5C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1D00-A013-4E47-AC18-BB06FE82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392E-AB6F-4297-BFA9-DBFA14CA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854B-DCB4-4FB4-963D-0F1AB798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8490-8614-4834-9EAC-4A52E192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861B-0E05-46E6-B05F-999DB30F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D370-AC9C-458D-AA6F-23C77621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808-8131-4EC2-80BC-30BC41A3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444A-0D54-43C3-B970-FD6DC51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8CE7-F65B-417D-B28F-61343D24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1F94-6DFA-452D-8A8F-A41960C3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3243-1007-408C-94D0-ECCF3CC3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1B46-6DD7-4B90-AB84-C05FE1CC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BA7-BE3F-4937-9B7E-DB58C90B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CDE-3F5F-40E0-9CCF-957D014F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F1C-607D-4A8E-AFD0-61CC1241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ED2-244F-4CDB-A765-B08F45C3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8EC-07C7-4D57-B013-B29F0D1C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3CC-0BEE-4BFB-B203-0687A993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11D-A532-40D4-9AB8-BF0DEA9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AAF-ADF1-4588-B1A6-869227F863C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B858-C5B4-4141-A601-E975A925FEBE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OE: Knowledge Representation for the Intern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ff Hef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Mary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 of Formal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of vocabulary and axioms, O=&lt;V,A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s of V and A depend on tags in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ffs are defined with respect to an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of ground atoms that reference an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“perspective” combines an ontology an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es a logical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OE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mbiguous naming sc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ntradi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ence rule lo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version is a new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ward compat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E is a language, not a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mplementation must cons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 design an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gath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ivity vs. performance trade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ry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System Archite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590920"/>
            <a:ext cx="128880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t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3354480"/>
            <a:ext cx="228600" cy="1293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7440" y="5029200"/>
            <a:ext cx="11415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2040" y="5029200"/>
            <a:ext cx="1217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429000"/>
            <a:ext cx="1143000" cy="1066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010280" y="3429000"/>
            <a:ext cx="914400" cy="1066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590920"/>
            <a:ext cx="128916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2590920"/>
            <a:ext cx="128916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2590920"/>
            <a:ext cx="128916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2590920"/>
            <a:ext cx="128916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4648320"/>
            <a:ext cx="128880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s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02360" y="4502160"/>
            <a:ext cx="10540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45720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45720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02360" y="5340240"/>
            <a:ext cx="10540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700520"/>
            <a:ext cx="93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r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31000" y="20415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67680" y="2041560"/>
            <a:ext cx="204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063880"/>
            <a:ext cx="3264120" cy="1587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21280" y="2063880"/>
            <a:ext cx="4635360" cy="1587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5240" y="4280040"/>
            <a:ext cx="1719360" cy="1752480"/>
          </a:xfrm>
          <a:custGeom>
            <a:avLst/>
            <a:gdLst/>
            <a:ahLst/>
            <a:rect l="l" t="t" r="r" b="b"/>
            <a:pathLst>
              <a:path w="1083" h="1104">
                <a:moveTo>
                  <a:pt x="75" y="424"/>
                </a:moveTo>
                <a:lnTo>
                  <a:pt x="32" y="374"/>
                </a:lnTo>
                <a:lnTo>
                  <a:pt x="11" y="342"/>
                </a:lnTo>
                <a:lnTo>
                  <a:pt x="22" y="310"/>
                </a:lnTo>
                <a:lnTo>
                  <a:pt x="32" y="278"/>
                </a:lnTo>
                <a:lnTo>
                  <a:pt x="54" y="267"/>
                </a:lnTo>
                <a:lnTo>
                  <a:pt x="86" y="246"/>
                </a:lnTo>
                <a:lnTo>
                  <a:pt x="118" y="246"/>
                </a:lnTo>
                <a:lnTo>
                  <a:pt x="140" y="257"/>
                </a:lnTo>
                <a:lnTo>
                  <a:pt x="172" y="246"/>
                </a:lnTo>
                <a:lnTo>
                  <a:pt x="182" y="224"/>
                </a:lnTo>
                <a:lnTo>
                  <a:pt x="204" y="203"/>
                </a:lnTo>
                <a:lnTo>
                  <a:pt x="225" y="171"/>
                </a:lnTo>
                <a:lnTo>
                  <a:pt x="236" y="149"/>
                </a:lnTo>
                <a:lnTo>
                  <a:pt x="247" y="117"/>
                </a:lnTo>
                <a:lnTo>
                  <a:pt x="279" y="85"/>
                </a:lnTo>
                <a:lnTo>
                  <a:pt x="311" y="64"/>
                </a:lnTo>
                <a:lnTo>
                  <a:pt x="343" y="64"/>
                </a:lnTo>
                <a:lnTo>
                  <a:pt x="365" y="64"/>
                </a:lnTo>
                <a:lnTo>
                  <a:pt x="397" y="64"/>
                </a:lnTo>
                <a:lnTo>
                  <a:pt x="429" y="64"/>
                </a:lnTo>
                <a:lnTo>
                  <a:pt x="461" y="96"/>
                </a:lnTo>
                <a:lnTo>
                  <a:pt x="493" y="107"/>
                </a:lnTo>
                <a:lnTo>
                  <a:pt x="557" y="117"/>
                </a:lnTo>
                <a:lnTo>
                  <a:pt x="590" y="117"/>
                </a:lnTo>
                <a:lnTo>
                  <a:pt x="622" y="107"/>
                </a:lnTo>
                <a:lnTo>
                  <a:pt x="654" y="85"/>
                </a:lnTo>
                <a:lnTo>
                  <a:pt x="686" y="64"/>
                </a:lnTo>
                <a:lnTo>
                  <a:pt x="697" y="42"/>
                </a:lnTo>
                <a:lnTo>
                  <a:pt x="729" y="32"/>
                </a:lnTo>
                <a:lnTo>
                  <a:pt x="750" y="10"/>
                </a:lnTo>
                <a:lnTo>
                  <a:pt x="772" y="10"/>
                </a:lnTo>
                <a:lnTo>
                  <a:pt x="814" y="0"/>
                </a:lnTo>
                <a:lnTo>
                  <a:pt x="836" y="0"/>
                </a:lnTo>
                <a:lnTo>
                  <a:pt x="879" y="21"/>
                </a:lnTo>
                <a:lnTo>
                  <a:pt x="964" y="32"/>
                </a:lnTo>
                <a:lnTo>
                  <a:pt x="986" y="32"/>
                </a:lnTo>
                <a:lnTo>
                  <a:pt x="997" y="64"/>
                </a:lnTo>
                <a:lnTo>
                  <a:pt x="986" y="96"/>
                </a:lnTo>
                <a:lnTo>
                  <a:pt x="975" y="128"/>
                </a:lnTo>
                <a:lnTo>
                  <a:pt x="964" y="160"/>
                </a:lnTo>
                <a:lnTo>
                  <a:pt x="954" y="182"/>
                </a:lnTo>
                <a:lnTo>
                  <a:pt x="932" y="214"/>
                </a:lnTo>
                <a:lnTo>
                  <a:pt x="922" y="246"/>
                </a:lnTo>
                <a:lnTo>
                  <a:pt x="900" y="257"/>
                </a:lnTo>
                <a:lnTo>
                  <a:pt x="922" y="278"/>
                </a:lnTo>
                <a:lnTo>
                  <a:pt x="964" y="289"/>
                </a:lnTo>
                <a:lnTo>
                  <a:pt x="986" y="299"/>
                </a:lnTo>
                <a:lnTo>
                  <a:pt x="1061" y="299"/>
                </a:lnTo>
                <a:lnTo>
                  <a:pt x="1072" y="321"/>
                </a:lnTo>
                <a:lnTo>
                  <a:pt x="1072" y="353"/>
                </a:lnTo>
                <a:lnTo>
                  <a:pt x="1072" y="385"/>
                </a:lnTo>
                <a:lnTo>
                  <a:pt x="1082" y="407"/>
                </a:lnTo>
                <a:lnTo>
                  <a:pt x="1082" y="449"/>
                </a:lnTo>
                <a:lnTo>
                  <a:pt x="1072" y="482"/>
                </a:lnTo>
                <a:lnTo>
                  <a:pt x="1061" y="524"/>
                </a:lnTo>
                <a:lnTo>
                  <a:pt x="1050" y="546"/>
                </a:lnTo>
                <a:lnTo>
                  <a:pt x="1018" y="567"/>
                </a:lnTo>
                <a:lnTo>
                  <a:pt x="954" y="578"/>
                </a:lnTo>
                <a:lnTo>
                  <a:pt x="932" y="589"/>
                </a:lnTo>
                <a:lnTo>
                  <a:pt x="911" y="621"/>
                </a:lnTo>
                <a:lnTo>
                  <a:pt x="922" y="653"/>
                </a:lnTo>
                <a:lnTo>
                  <a:pt x="943" y="696"/>
                </a:lnTo>
                <a:lnTo>
                  <a:pt x="1018" y="728"/>
                </a:lnTo>
                <a:lnTo>
                  <a:pt x="1039" y="760"/>
                </a:lnTo>
                <a:lnTo>
                  <a:pt x="1061" y="771"/>
                </a:lnTo>
                <a:lnTo>
                  <a:pt x="1072" y="803"/>
                </a:lnTo>
                <a:lnTo>
                  <a:pt x="1072" y="835"/>
                </a:lnTo>
                <a:lnTo>
                  <a:pt x="1039" y="867"/>
                </a:lnTo>
                <a:lnTo>
                  <a:pt x="1018" y="889"/>
                </a:lnTo>
                <a:lnTo>
                  <a:pt x="975" y="889"/>
                </a:lnTo>
                <a:lnTo>
                  <a:pt x="943" y="899"/>
                </a:lnTo>
                <a:lnTo>
                  <a:pt x="911" y="889"/>
                </a:lnTo>
                <a:lnTo>
                  <a:pt x="889" y="867"/>
                </a:lnTo>
                <a:lnTo>
                  <a:pt x="857" y="835"/>
                </a:lnTo>
                <a:lnTo>
                  <a:pt x="825" y="814"/>
                </a:lnTo>
                <a:lnTo>
                  <a:pt x="793" y="814"/>
                </a:lnTo>
                <a:lnTo>
                  <a:pt x="761" y="835"/>
                </a:lnTo>
                <a:lnTo>
                  <a:pt x="740" y="878"/>
                </a:lnTo>
                <a:lnTo>
                  <a:pt x="729" y="921"/>
                </a:lnTo>
                <a:lnTo>
                  <a:pt x="718" y="953"/>
                </a:lnTo>
                <a:lnTo>
                  <a:pt x="707" y="996"/>
                </a:lnTo>
                <a:lnTo>
                  <a:pt x="686" y="1028"/>
                </a:lnTo>
                <a:lnTo>
                  <a:pt x="611" y="1071"/>
                </a:lnTo>
                <a:lnTo>
                  <a:pt x="568" y="1092"/>
                </a:lnTo>
                <a:lnTo>
                  <a:pt x="525" y="1103"/>
                </a:lnTo>
                <a:lnTo>
                  <a:pt x="493" y="1103"/>
                </a:lnTo>
                <a:lnTo>
                  <a:pt x="472" y="1081"/>
                </a:lnTo>
                <a:lnTo>
                  <a:pt x="461" y="1049"/>
                </a:lnTo>
                <a:lnTo>
                  <a:pt x="450" y="1017"/>
                </a:lnTo>
                <a:lnTo>
                  <a:pt x="440" y="985"/>
                </a:lnTo>
                <a:lnTo>
                  <a:pt x="440" y="942"/>
                </a:lnTo>
                <a:lnTo>
                  <a:pt x="440" y="910"/>
                </a:lnTo>
                <a:lnTo>
                  <a:pt x="440" y="878"/>
                </a:lnTo>
                <a:lnTo>
                  <a:pt x="440" y="856"/>
                </a:lnTo>
                <a:lnTo>
                  <a:pt x="418" y="835"/>
                </a:lnTo>
                <a:lnTo>
                  <a:pt x="386" y="835"/>
                </a:lnTo>
                <a:lnTo>
                  <a:pt x="354" y="846"/>
                </a:lnTo>
                <a:lnTo>
                  <a:pt x="322" y="878"/>
                </a:lnTo>
                <a:lnTo>
                  <a:pt x="300" y="899"/>
                </a:lnTo>
                <a:lnTo>
                  <a:pt x="268" y="921"/>
                </a:lnTo>
                <a:lnTo>
                  <a:pt x="236" y="942"/>
                </a:lnTo>
                <a:lnTo>
                  <a:pt x="193" y="931"/>
                </a:lnTo>
                <a:lnTo>
                  <a:pt x="97" y="921"/>
                </a:lnTo>
                <a:lnTo>
                  <a:pt x="32" y="910"/>
                </a:lnTo>
                <a:lnTo>
                  <a:pt x="11" y="878"/>
                </a:lnTo>
                <a:lnTo>
                  <a:pt x="11" y="846"/>
                </a:lnTo>
                <a:lnTo>
                  <a:pt x="22" y="814"/>
                </a:lnTo>
                <a:lnTo>
                  <a:pt x="32" y="792"/>
                </a:lnTo>
                <a:lnTo>
                  <a:pt x="54" y="771"/>
                </a:lnTo>
                <a:lnTo>
                  <a:pt x="75" y="749"/>
                </a:lnTo>
                <a:lnTo>
                  <a:pt x="140" y="728"/>
                </a:lnTo>
                <a:lnTo>
                  <a:pt x="182" y="706"/>
                </a:lnTo>
                <a:lnTo>
                  <a:pt x="204" y="696"/>
                </a:lnTo>
                <a:lnTo>
                  <a:pt x="225" y="674"/>
                </a:lnTo>
                <a:lnTo>
                  <a:pt x="193" y="664"/>
                </a:lnTo>
                <a:lnTo>
                  <a:pt x="150" y="653"/>
                </a:lnTo>
                <a:lnTo>
                  <a:pt x="118" y="653"/>
                </a:lnTo>
                <a:lnTo>
                  <a:pt x="86" y="653"/>
                </a:lnTo>
                <a:lnTo>
                  <a:pt x="54" y="664"/>
                </a:lnTo>
                <a:lnTo>
                  <a:pt x="32" y="664"/>
                </a:lnTo>
                <a:lnTo>
                  <a:pt x="0" y="664"/>
                </a:lnTo>
                <a:lnTo>
                  <a:pt x="0" y="642"/>
                </a:lnTo>
                <a:lnTo>
                  <a:pt x="0" y="610"/>
                </a:lnTo>
                <a:lnTo>
                  <a:pt x="0" y="578"/>
                </a:lnTo>
                <a:lnTo>
                  <a:pt x="0" y="556"/>
                </a:lnTo>
                <a:lnTo>
                  <a:pt x="22" y="535"/>
                </a:lnTo>
                <a:lnTo>
                  <a:pt x="54" y="524"/>
                </a:lnTo>
                <a:lnTo>
                  <a:pt x="86" y="514"/>
                </a:lnTo>
                <a:lnTo>
                  <a:pt x="107" y="492"/>
                </a:lnTo>
                <a:lnTo>
                  <a:pt x="129" y="492"/>
                </a:lnTo>
                <a:lnTo>
                  <a:pt x="107" y="471"/>
                </a:lnTo>
                <a:lnTo>
                  <a:pt x="75" y="424"/>
                </a:lnTo>
                <a:lnTo>
                  <a:pt x="75" y="4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4726080"/>
            <a:ext cx="838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057400" y="3352680"/>
            <a:ext cx="914400" cy="12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429000"/>
            <a:ext cx="152280" cy="1066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nowledge Annota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36576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up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eed to learn the SHOE syn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knowledge to pages by making selections and filling in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error prone than manual mark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444920" y="2284560"/>
            <a:ext cx="4076640" cy="3213000"/>
            <a:chOff x="4444920" y="2284560"/>
            <a:chExt cx="4076640" cy="321300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4444920" y="2741760"/>
              <a:ext cx="407664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16600" y="2284560"/>
              <a:ext cx="27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pos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rob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es for SHOE web p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s clustering of SHOE p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ically revisits p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s information in a K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faster response to user queri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nformation may be s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-based K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O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junctive que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s features of KBs and D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s to large K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s are ha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relation is a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Q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ka query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 representation of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relations from dialog 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URLs to open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756320" y="2666880"/>
            <a:ext cx="36255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OE Sear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-based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a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an object of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desired values for properties of th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results to view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763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: CS Depart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 of con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ology incl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ulty, students, publications, research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up for four depar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 pages, 5000 asser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otation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Annotator, text editor, file conversion, pattern ex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s of Web Seman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ization, use of relations, contex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Web Ag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brit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sh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evaluation of relevan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ized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, domain specific GU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: TSE Ri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-world 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 of food 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IFSAN (FDA/UM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eases, animals, processes, 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pages, 500 asser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purpose query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326200" y="2360520"/>
            <a:ext cx="3227400" cy="3219480"/>
            <a:chOff x="5326200" y="2360520"/>
            <a:chExt cx="3227400" cy="32194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5326200" y="2817720"/>
              <a:ext cx="3227400" cy="27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655960" y="2360520"/>
              <a:ext cx="25326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SE Path Analyzer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HOE Search Engi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al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scruffy.cs.umd.edu:8080/shoe/search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ge submission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validatio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s to ontologies, Knowledge Annot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us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abl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common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nce identificat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 diverg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imants and 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E works in distributed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ion of do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E allows rapid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E is s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don’t need a Ph.D. to use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r more information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 the SHOE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umd.edu/projects/plus/SHO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wnl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 e-mail to: heflin@cs.umd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s for Web K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b is distrib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sources, varying auth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nsist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b is dyna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ational needs may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b is enorm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s must scale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Not Use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syntatic rules, does not specify seman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presentations for sam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DF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dequate inferential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 schema versioning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distinction between schemas an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OE-An Internet KR Langu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 t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s HTML, compatible with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vocabulary and seman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able and ext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laims about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 to one or more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Ont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ONTOLOGY ID="cs-dept-ontology" VERSION="1.1"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BACKWARD-COMPATIBLE-WITH="1.0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USE-ONTOLOGY ID="univ-ontology" VERSION="1.0" PREFIX="u"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URL="http://ontlib.org/univ_v1.0.html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CATEGORY NAME="ComputerScience"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SA="u.ResearchArea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RELATION NAME="writtenIn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ARG POS=1 TYPE="Program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ARG POS=2 TYPE="ComputerLanguage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DEF-RELATION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RENAME FROM="u.Department" TO="Department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RENAME FROM="u.DepartmentChair" TO="Chair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DEF-CONSTANT NAME="Java" CATEGORY="ComputerLanguage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960" y="2917800"/>
            <a:ext cx="156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Ontology inclu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0000" y="4581360"/>
            <a:ext cx="56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l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36400" y="3286080"/>
            <a:ext cx="126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lass defini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35320" y="3743280"/>
            <a:ext cx="1594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Predicate defin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9920" y="3048120"/>
            <a:ext cx="7617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181120" y="4724280"/>
            <a:ext cx="160020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23920" y="3429000"/>
            <a:ext cx="205740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343040" y="3886200"/>
            <a:ext cx="243828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35680" y="5038560"/>
            <a:ext cx="145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onstant in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790960" y="5181480"/>
            <a:ext cx="9903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36760" y="5572080"/>
            <a:ext cx="1652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an also def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xioms  (not show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tology Interoper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50520" y="2414520"/>
            <a:ext cx="73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51040" y="31003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02600" y="439596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4000" y="5614920"/>
            <a:ext cx="11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ptCh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50720" y="439596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03360" y="5614920"/>
            <a:ext cx="5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74040" y="3100320"/>
            <a:ext cx="79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2743200"/>
            <a:ext cx="1143000" cy="3808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52520" y="2743200"/>
            <a:ext cx="1143000" cy="3808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429000"/>
            <a:ext cx="0" cy="9907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248520" y="3429000"/>
            <a:ext cx="0" cy="9907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124080" y="4724280"/>
            <a:ext cx="0" cy="9144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248520" y="4724280"/>
            <a:ext cx="0" cy="9144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44760" y="2368440"/>
            <a:ext cx="4483080" cy="128268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16160" y="4197240"/>
            <a:ext cx="1816200" cy="67320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40240" y="4197240"/>
            <a:ext cx="1816200" cy="67320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6160" y="5492880"/>
            <a:ext cx="1816200" cy="67284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0240" y="5492880"/>
            <a:ext cx="1816200" cy="672840"/>
          </a:xfrm>
          <a:prstGeom prst="rect">
            <a:avLst/>
          </a:prstGeom>
          <a:noFill/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4320" y="2033640"/>
            <a:ext cx="175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-ont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16800" y="3862440"/>
            <a:ext cx="96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-o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1880" y="5157720"/>
            <a:ext cx="132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y-univ-o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41240" y="386244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rn-o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2640" y="5157720"/>
            <a:ext cx="130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y-furn-o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59080" y="2689200"/>
            <a:ext cx="3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1040" y="2689200"/>
            <a:ext cx="3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30880" y="3755880"/>
            <a:ext cx="3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6440" y="3755880"/>
            <a:ext cx="3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06080" y="4975200"/>
            <a:ext cx="78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n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06480" y="4975200"/>
            <a:ext cx="78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n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olving Ontology Diverge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8920" y="2416320"/>
            <a:ext cx="52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73720" y="2416320"/>
            <a:ext cx="6030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14600" y="3940200"/>
            <a:ext cx="5810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73720" y="3940200"/>
            <a:ext cx="70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4320" y="2416320"/>
            <a:ext cx="52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59120" y="2416320"/>
            <a:ext cx="6030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6160" y="2416320"/>
            <a:ext cx="52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45520" y="2416320"/>
            <a:ext cx="6030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1840" y="3940200"/>
            <a:ext cx="5810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45520" y="3940200"/>
            <a:ext cx="70164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4400" y="3940200"/>
            <a:ext cx="5706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6360" y="3114720"/>
            <a:ext cx="550800" cy="508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2900520"/>
            <a:ext cx="0" cy="98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2900520"/>
            <a:ext cx="0" cy="98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558120" y="3586320"/>
            <a:ext cx="452160" cy="2998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67600" y="3586320"/>
            <a:ext cx="452520" cy="2998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8440" y="180504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ping Ont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3760" y="1805040"/>
            <a:ext cx="21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ping Rev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30640" y="1805040"/>
            <a:ext cx="23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nt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24000" y="2900520"/>
            <a:ext cx="376200" cy="985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3120" y="2900520"/>
            <a:ext cx="376200" cy="985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900520"/>
            <a:ext cx="0" cy="98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900520"/>
            <a:ext cx="0" cy="98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90880" y="2900520"/>
            <a:ext cx="681120" cy="985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9440" y="2898720"/>
            <a:ext cx="758880" cy="9874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2840" y="4548240"/>
            <a:ext cx="25290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tains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map conce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ontolo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39360" y="4548240"/>
            <a:ext cx="24112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tains rules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bjects to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inology.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o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08760" y="4548240"/>
            <a:ext cx="2609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tains inters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oncepts.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ame terms 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10400" y="59436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10400" y="61722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23040" y="5789520"/>
            <a:ext cx="1290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sed b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b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27760" y="5843520"/>
            <a:ext cx="67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73760" y="5797440"/>
            <a:ext cx="265428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Inst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TITLE&gt;Jane Smith’s Homepage&lt;/TITL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META HTTP-EQUIV="SHOE" CONTENT="VERSION=1.0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INSTANCE KEY="http://www.cs.umd.edu/users/jsmith/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USE-ONTOLOGY ID="university-ont" VERSION="1.0"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EFIX="u" URL="http://www.ontology.org/onts/univ.html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CATEGORY NAME="u.gradStudent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RELATION NAME="u.name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ARG POS="TO" VALUE="Jane Smith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RELATION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RELATION NAME="u.advisor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ARG POS="TO" VALUE="http://www.cs.umd.edu/users/jdoe/"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RELATION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INSTANC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06360" y="375588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References an ont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019560" y="3886200"/>
            <a:ext cx="5331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08160" y="4441680"/>
            <a:ext cx="16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Describes a proper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06720" y="4137120"/>
            <a:ext cx="147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Identifies its cl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06000" y="5051520"/>
            <a:ext cx="190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Describes a relationsh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114440" y="4572000"/>
            <a:ext cx="243828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560" y="4267080"/>
            <a:ext cx="28191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657240" y="5181480"/>
            <a:ext cx="289548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08880" y="3451320"/>
            <a:ext cx="1422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Has a unique 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62360" y="3581280"/>
            <a:ext cx="99036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7T20:07:50Z</dcterms:created>
  <dc:creator>Jeff Heflin</dc:creator>
  <dc:description/>
  <dc:language>en-US</dc:language>
  <cp:lastModifiedBy>stefan</cp:lastModifiedBy>
  <dcterms:modified xsi:type="dcterms:W3CDTF">2000-04-14T21:08:16Z</dcterms:modified>
  <cp:revision>40</cp:revision>
  <dc:subject/>
  <dc:title>Knowledge Representation on the Internet</dc:title>
</cp:coreProperties>
</file>